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608-BAA9-4B10-9615-F45B7D3F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1B0-ED8D-462D-8072-7FDD933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B97-81A0-4F9F-A118-73A4B930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26C-6412-435A-80D3-CA69EDB6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127A-8DE8-4AED-9767-48BA9D0D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CA5B-5148-4403-88BF-BA209742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B7B7-56AC-4F6E-A3E0-B5574249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021E-D0A6-4EBC-A4C5-A0C44D7E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8280-DCC9-434E-889E-312B5408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C023-F8B3-4AC5-9793-C36A15E9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B3C7-EEDA-4F36-B865-08CF3A9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B31-4668-4EEE-BCF1-7A08C91D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7D34-6B32-4172-8BD5-D5A1078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6FEE-8734-40E0-9E02-CC162716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3398-C8C1-46F7-8C32-7AE8D562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4AE2-B403-4475-BDC8-637D4701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4363-36ED-46F4-BFAD-30ECF4C0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606-E5DF-4B8B-942A-E387FD6A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65E-4280-46E3-AA93-006945CB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EE5-61C5-4913-B62F-5B7BCD0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F7D-BBE8-4C1C-A3A3-D5825FF1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EF4-DC13-4B45-AA15-7E12C6A9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13E-ED7A-4640-AA31-E55B073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E6C-B7D7-4BC0-B0BF-3C07008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CD13-7703-4A74-9D5F-7E6FE4FDF1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5771-EEDC-4FC2-B557-7E408188D7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quiry Processes at Te Pahu Schoo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ervable 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ing is becoming more of a collaborative exerc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re learning to look for and plan for connections between classes / whole school / within a topic or idea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Recyc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quent professional discussions 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ff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dicate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ment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 meet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retionary time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/ parent / teacher con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ent surv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planning, teaching, assessment and reporting processes have needed review to represent the changes we are making in learning and teac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us on self assess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lead con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survey showed high level of acceptance but the need for a parent ‘education’ eve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E Targets are related to student self assessment using criteria (WALT / HWIK, Rubric, Learning Intention, Matrix, ….) The common theme is that the student is being made aware of what success / quality learning looks lik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eviewed our budget and ‘reclaimed’ finances (Along with a grant) so that we could purchase a data projector to be mounted in each class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essional development has been focussed as a ‘whole school’ foc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are all attending ulearn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 shared enthusiasm for PD that builds on our journey (Pam Hook on Questioning, Georgette Jenson on Rubr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task now is to continue to explore the possibilities of using inquiry processes in meaningful ways in student / teacher learning and come to some agreed understanding of a process from Y1 to Y8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e To develop “From the New Zealand Curriculum to School Curriculum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0:10:21Z</dcterms:created>
  <dc:creator>Falconer  </dc:creator>
  <dc:description/>
  <dc:language>en-US</dc:language>
  <cp:lastModifiedBy>Ministry of Education</cp:lastModifiedBy>
  <dcterms:modified xsi:type="dcterms:W3CDTF">2008-05-18T20:24:58Z</dcterms:modified>
  <cp:revision>6</cp:revision>
  <dc:subject/>
  <dc:title>Inquiry Processes at Te Pahu School</dc:title>
</cp:coreProperties>
</file>